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2B6-FC84-4C99-B695-4E9BA47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45E-6350-4631-97C4-68CFBA20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16B-8283-445D-8E35-BADE46B3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7E9-CCA7-4BCD-BF7D-D3C882BB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464-7015-451C-AAB1-D730F05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416-55E0-4D47-91B2-20460AC0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C42-B35A-4AD9-BDCD-7BBC5C36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6E9-B941-4405-87B6-957CE18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6A7-1696-4D36-8DEC-25B782E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306-83FD-498C-867A-541A3B7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676-5CCA-454D-B23B-2F5A507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3DF-0E24-4B33-B652-EFE6F9E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693-8228-414E-A4C9-E4E0FD571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41920" cy="142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189240" cy="698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7619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224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853452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44956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4495680"/>
            <a:ext cx="9903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31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8534520" cy="156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0400" y="38862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88620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105520"/>
            <a:ext cx="31244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25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8763120" cy="10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67080" y="5867280"/>
            <a:ext cx="7621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58672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462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131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48640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4864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548640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089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5:10:06Z</dcterms:created>
  <dc:creator>Graham</dc:creator>
  <dc:description/>
  <dc:language>en-US</dc:language>
  <cp:lastModifiedBy>Graham</cp:lastModifiedBy>
  <dcterms:modified xsi:type="dcterms:W3CDTF">2012-08-08T12:19:15Z</dcterms:modified>
  <cp:revision>2</cp:revision>
  <dc:subject/>
  <dc:title>Slide 1</dc:title>
</cp:coreProperties>
</file>